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6400800"/>
            <a:ext cx="252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© 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8B92F-24D1-4537-BEA4-682EF2765D0B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3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AISC CIS/2  Workshop #2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0.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cription of Conformance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5560" y="498600"/>
            <a:ext cx="37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vine, CA: June 1999 (rev 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C Combinat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03320" y="2057400"/>
            <a:ext cx="2972520" cy="642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mbin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527480" y="4570560"/>
            <a:ext cx="2279160" cy="1634760"/>
            <a:chOff x="1527480" y="4570560"/>
            <a:chExt cx="2279160" cy="1634760"/>
          </a:xfrm>
        </p:grpSpPr>
        <p:sp>
          <p:nvSpPr>
            <p:cNvPr id="116" name=""/>
            <p:cNvSpPr/>
            <p:nvPr/>
          </p:nvSpPr>
          <p:spPr>
            <a:xfrm>
              <a:off x="2440080" y="4800600"/>
              <a:ext cx="136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Compris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27480" y="5562720"/>
              <a:ext cx="1831320" cy="6426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ffff"/>
                  </a:solidFill>
                  <a:latin typeface="Arial"/>
                </a:rPr>
                <a:t>Entities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18" name=""/>
            <p:cNvCxnSpPr>
              <a:stCxn id="119" idx="2"/>
              <a:endCxn id="117" idx="0"/>
            </p:cNvCxnSpPr>
            <p:nvPr/>
          </p:nvCxnSpPr>
          <p:spPr>
            <a:xfrm flipV="1" rot="10800000">
              <a:off x="2442600" y="4570200"/>
              <a:ext cx="1080" cy="978480"/>
            </a:xfrm>
            <a:prstGeom prst="bentConnector2">
              <a:avLst/>
            </a:prstGeom>
            <a:ln w="28440">
              <a:solidFill>
                <a:srgbClr val="cc0000"/>
              </a:solidFill>
              <a:miter/>
              <a:tailEnd len="lg" type="oval" w="lg"/>
            </a:ln>
          </p:spPr>
        </p:cxnSp>
      </p:grpSp>
      <p:grpSp>
        <p:nvGrpSpPr>
          <p:cNvPr id="120" name=""/>
          <p:cNvGrpSpPr/>
          <p:nvPr/>
        </p:nvGrpSpPr>
        <p:grpSpPr>
          <a:xfrm>
            <a:off x="1310400" y="3733920"/>
            <a:ext cx="4377600" cy="794880"/>
            <a:chOff x="1310400" y="3733920"/>
            <a:chExt cx="4377600" cy="794880"/>
          </a:xfrm>
        </p:grpSpPr>
        <p:sp>
          <p:nvSpPr>
            <p:cNvPr id="119" name=""/>
            <p:cNvSpPr/>
            <p:nvPr/>
          </p:nvSpPr>
          <p:spPr>
            <a:xfrm>
              <a:off x="1310400" y="3886200"/>
              <a:ext cx="2265480" cy="6426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BASE-CC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1" name=""/>
            <p:cNvCxnSpPr>
              <a:stCxn id="122" idx="1"/>
              <a:endCxn id="119" idx="3"/>
            </p:cNvCxnSpPr>
            <p:nvPr/>
          </p:nvCxnSpPr>
          <p:spPr>
            <a:xfrm rot="10800000">
              <a:off x="3604320" y="4220280"/>
              <a:ext cx="2083680" cy="1080"/>
            </a:xfrm>
            <a:prstGeom prst="bentConnector2">
              <a:avLst/>
            </a:prstGeom>
            <a:ln w="28440">
              <a:solidFill>
                <a:srgbClr val="cc0000"/>
              </a:solidFill>
              <a:miter/>
              <a:tailEnd len="lg" type="oval" w="lg"/>
            </a:ln>
          </p:spPr>
        </p:cxnSp>
        <p:sp>
          <p:nvSpPr>
            <p:cNvPr id="123" name=""/>
            <p:cNvSpPr/>
            <p:nvPr/>
          </p:nvSpPr>
          <p:spPr>
            <a:xfrm>
              <a:off x="3888000" y="3733920"/>
              <a:ext cx="136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Compris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5718240" y="2741400"/>
            <a:ext cx="2584080" cy="1787400"/>
            <a:chOff x="5718240" y="2741400"/>
            <a:chExt cx="2584080" cy="1787400"/>
          </a:xfrm>
        </p:grpSpPr>
        <p:sp>
          <p:nvSpPr>
            <p:cNvPr id="122" name=""/>
            <p:cNvSpPr/>
            <p:nvPr/>
          </p:nvSpPr>
          <p:spPr>
            <a:xfrm>
              <a:off x="5718240" y="3886200"/>
              <a:ext cx="2543040" cy="6426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Completed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5" name=""/>
            <p:cNvCxnSpPr>
              <a:stCxn id="114" idx="2"/>
              <a:endCxn id="122" idx="0"/>
            </p:cNvCxnSpPr>
            <p:nvPr/>
          </p:nvCxnSpPr>
          <p:spPr>
            <a:xfrm flipV="1" rot="10800000">
              <a:off x="6989040" y="2741400"/>
              <a:ext cx="1080" cy="1130760"/>
            </a:xfrm>
            <a:prstGeom prst="bentConnector2">
              <a:avLst/>
            </a:prstGeom>
            <a:ln w="28440">
              <a:solidFill>
                <a:srgbClr val="cc0000"/>
              </a:solidFill>
              <a:miter/>
              <a:tailEnd len="lg" type="oval" w="lg"/>
            </a:ln>
          </p:spPr>
        </p:cxnSp>
        <p:sp>
          <p:nvSpPr>
            <p:cNvPr id="126" name=""/>
            <p:cNvSpPr/>
            <p:nvPr/>
          </p:nvSpPr>
          <p:spPr>
            <a:xfrm>
              <a:off x="6935760" y="3048120"/>
              <a:ext cx="136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Compris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762120" y="2971800"/>
            <a:ext cx="1447560" cy="457200"/>
          </a:xfrm>
          <a:prstGeom prst="wedgeRoundRectCallout">
            <a:avLst>
              <a:gd name="adj1" fmla="val 80263"/>
              <a:gd name="adj2" fmla="val 142708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C12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81480" y="5181480"/>
            <a:ext cx="2362320" cy="457200"/>
          </a:xfrm>
          <a:prstGeom prst="wedgeRoundRectCallout">
            <a:avLst>
              <a:gd name="adj1" fmla="val 41129"/>
              <a:gd name="adj2" fmla="val -182291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C123 + CC12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1905120"/>
            <a:ext cx="3733920" cy="457200"/>
          </a:xfrm>
          <a:prstGeom prst="wedgeRoundRectCallout">
            <a:avLst>
              <a:gd name="adj1" fmla="val 78740"/>
              <a:gd name="adj2" fmla="val 109375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C53 + CC123 + CC12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14800" y="6095880"/>
            <a:ext cx="1295280" cy="457200"/>
          </a:xfrm>
          <a:prstGeom prst="wedgeRoundRectCallout">
            <a:avLst>
              <a:gd name="adj1" fmla="val -109314"/>
              <a:gd name="adj2" fmla="val -60069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C Combinat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emble as needed from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omplet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ASE-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fine by a list of BASE-CC numb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me entity can be repeatedly included at multiple levels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Venn diagram nest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Huge number of possible combination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Why so complex?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alid Subse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 completed CC simply defines a subset of the LPM that is logically valid to instanti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ubset need not be usefu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ubset need not be (that) meaning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PM/5 is large and comple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ffff"/>
                </a:solidFill>
                <a:latin typeface="Times New Roman"/>
              </a:rPr>
              <a:t>many valid subsets are possibl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ard Boundari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5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overall scope of a particular translator corresponds to a particular CC comb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rrectly translate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l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data within that valid subs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105000"/>
              </a:lnSpc>
              <a:spcBef>
                <a:spcPts val="9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every </a:t>
            </a:r>
            <a:r>
              <a:rPr b="1" lang="en-GB" sz="2400" spc="-1" strike="noStrike">
                <a:solidFill>
                  <a:srgbClr val="00ffff"/>
                </a:solidFill>
                <a:latin typeface="Times New Roman"/>
              </a:rPr>
              <a:t>entity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, 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105000"/>
              </a:lnSpc>
              <a:spcBef>
                <a:spcPts val="9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every (non OPTIONAL) </a:t>
            </a:r>
            <a:r>
              <a:rPr b="1" lang="en-GB" sz="2400" spc="-1" strike="noStrike">
                <a:solidFill>
                  <a:srgbClr val="00ffff"/>
                </a:solidFill>
                <a:latin typeface="Times New Roman"/>
              </a:rPr>
              <a:t>attribu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y translator provide user control for exporting or importing lesser valid sco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5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Care when scoping a translator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41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699"/>
                <a:gd name="adj5" fmla="val 49453"/>
                <a:gd name="adj6" fmla="val -5100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44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ex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2971800" y="3581280"/>
            <a:ext cx="990720" cy="99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62320" y="3581280"/>
            <a:ext cx="990360" cy="99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590920" y="3733920"/>
            <a:ext cx="1295280" cy="1295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19520" y="4038480"/>
            <a:ext cx="91440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95680" y="5705640"/>
            <a:ext cx="274320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26796"/>
              <a:gd name="adj5" fmla="val -253282"/>
              <a:gd name="adj6" fmla="val -51722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ss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Scope: Ful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Application fully 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xport full CC scope of the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IS data will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so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satisfy any subset C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f the translator provides for it, could export a lesser valid sub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IS data will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so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satisfy any subset CC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219320" y="3657600"/>
            <a:ext cx="3200400" cy="1752480"/>
          </a:xfrm>
          <a:prstGeom prst="cloudCallout">
            <a:avLst>
              <a:gd name="adj1" fmla="val -23462"/>
              <a:gd name="adj2" fmla="val 37138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56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763"/>
                <a:gd name="adj5" fmla="val 51569"/>
                <a:gd name="adj6" fmla="val -5150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59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ex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2971800" y="3581280"/>
            <a:ext cx="99072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362320" y="3581280"/>
            <a:ext cx="99036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90920" y="3733920"/>
            <a:ext cx="1295280" cy="1295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19520" y="4038480"/>
            <a:ext cx="91440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81280" y="5486400"/>
            <a:ext cx="2514600" cy="825480"/>
          </a:xfrm>
          <a:prstGeom prst="borderCallout2">
            <a:avLst>
              <a:gd name="adj1" fmla="val 18750"/>
              <a:gd name="adj2" fmla="val -8333"/>
              <a:gd name="adj3" fmla="val 13282"/>
              <a:gd name="adj4" fmla="val -14268"/>
              <a:gd name="adj5" fmla="val -61462"/>
              <a:gd name="adj6" fmla="val -54032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populated information sco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1676520"/>
            <a:ext cx="266724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8513"/>
              <a:gd name="adj5" fmla="val 451407"/>
              <a:gd name="adj6" fmla="val -28865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ss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Scope: Partia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Application only partly 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ort full CC scope of the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will the mapping logic still work correctl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bset CC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a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e fully populated with CIS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translator provides for it, could export a lesser (but fully populated) valid sub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71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699"/>
                <a:gd name="adj5" fmla="val 50509"/>
                <a:gd name="adj6" fmla="val -5100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74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introduce the concept of Conformance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as documented in the CIS/2 Beta Rele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57200" y="1981080"/>
            <a:ext cx="3809880" cy="3810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81080" y="3048120"/>
            <a:ext cx="2895840" cy="2895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80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888"/>
                <a:gd name="adj5" fmla="val 49453"/>
                <a:gd name="adj6" fmla="val -52013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83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5791320" y="5791320"/>
            <a:ext cx="281916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26745"/>
              <a:gd name="adj5" fmla="val -37870"/>
              <a:gd name="adj6" fmla="val -51685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reat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Scope: Ful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mporting application not pre-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S data full populates CC scope of import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IS dat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a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exceed CC scope of translator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183880" y="0"/>
            <a:ext cx="95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93"/>
                </a:solidFill>
                <a:latin typeface="Arial"/>
              </a:rPr>
              <a:t>1/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438280" y="3581280"/>
            <a:ext cx="1447920" cy="1447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066680" y="2666880"/>
            <a:ext cx="3657600" cy="2895840"/>
          </a:xfrm>
          <a:prstGeom prst="cloudCallout">
            <a:avLst>
              <a:gd name="adj1" fmla="val -26777"/>
              <a:gd name="adj2" fmla="val 42212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91320" y="2560680"/>
            <a:ext cx="2514600" cy="1191240"/>
          </a:xfrm>
          <a:prstGeom prst="borderCallout2">
            <a:avLst>
              <a:gd name="adj1" fmla="val 18750"/>
              <a:gd name="adj2" fmla="val -8333"/>
              <a:gd name="adj3" fmla="val 9328"/>
              <a:gd name="adj4" fmla="val -13574"/>
              <a:gd name="adj5" fmla="val 51569"/>
              <a:gd name="adj6" fmla="val -50500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information scope of the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94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5334120" y="5513400"/>
            <a:ext cx="312408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12041"/>
              <a:gd name="adj5" fmla="val -256805"/>
              <a:gd name="adj6" fmla="val -46592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pulated valid subs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Scope: Partia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mporting application not pre-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rt full CC scope of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will the mapping logic still work correctl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DEALLY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logic able to import, in isolation, each within-scope completed BASE-CC!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translator provides for it, could import a lesser (but fully populated) valid sub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438280" y="3581280"/>
            <a:ext cx="144792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066680" y="2666880"/>
            <a:ext cx="3657600" cy="2895840"/>
          </a:xfrm>
          <a:prstGeom prst="cloudCallout">
            <a:avLst>
              <a:gd name="adj1" fmla="val -26777"/>
              <a:gd name="adj2" fmla="val 42212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791320" y="2560680"/>
            <a:ext cx="2514600" cy="1191240"/>
          </a:xfrm>
          <a:prstGeom prst="borderCallout2">
            <a:avLst>
              <a:gd name="adj1" fmla="val 18750"/>
              <a:gd name="adj2" fmla="val -8333"/>
              <a:gd name="adj3" fmla="val 9328"/>
              <a:gd name="adj4" fmla="val -13574"/>
              <a:gd name="adj5" fmla="val 51569"/>
              <a:gd name="adj6" fmla="val -50500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information scope of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204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2971800" y="3581280"/>
            <a:ext cx="99072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362320" y="3581280"/>
            <a:ext cx="99036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590920" y="3733920"/>
            <a:ext cx="1295280" cy="1295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819520" y="4038480"/>
            <a:ext cx="91440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962520" y="5715000"/>
            <a:ext cx="266688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8810"/>
              <a:gd name="adj5" fmla="val -356648"/>
              <a:gd name="adj6" fmla="val -30287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ss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105520" y="1752480"/>
            <a:ext cx="312408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15194"/>
              <a:gd name="adj5" fmla="val 393347"/>
              <a:gd name="adj6" fmla="val -61226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pulated valid subs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and Impor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x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CC scope of transl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er valid subset (requested and/or partial dat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m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CC scope of translato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cess data CIS data ignor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er valid subset (requested and/or partial dat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application must be able to store and manipulate any such subset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520" y="2286000"/>
            <a:ext cx="85345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CIS/2 Beta Documentation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BASE-CCs Explained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BASE-CC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e for each non-abstract entity in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stract entities are not instanc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ASE-CC for each base-entity built from the EXPRESS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ll-in: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entities it references direct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ll-in: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entities that must point at 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11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plicit inverse relationships with no zero cardina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BASE-CC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5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heritance requires relationships to any super-types to be consider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SE-CCs where generated automatically from the EXP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rules wher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onsidered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5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“valid subset” results from recursively pulling-in entities until the list is st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base entity may have many valid subset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3808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1981080"/>
            <a:ext cx="2286000" cy="211608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text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400800" y="4876920"/>
            <a:ext cx="1987200" cy="1014120"/>
            <a:chOff x="6400800" y="4876920"/>
            <a:chExt cx="1987200" cy="1014120"/>
          </a:xfrm>
        </p:grpSpPr>
        <p:pic>
          <p:nvPicPr>
            <p:cNvPr id="58" name="" descr=""/>
            <p:cNvPicPr/>
            <p:nvPr/>
          </p:nvPicPr>
          <p:blipFill>
            <a:blip r:embed="rId3"/>
            <a:stretch/>
          </p:blipFill>
          <p:spPr>
            <a:xfrm>
              <a:off x="640080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40116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6689880" y="2362320"/>
            <a:ext cx="1400760" cy="1236600"/>
            <a:chOff x="6689880" y="2362320"/>
            <a:chExt cx="1400760" cy="1236600"/>
          </a:xfrm>
        </p:grpSpPr>
        <p:pic>
          <p:nvPicPr>
            <p:cNvPr id="61" name="" descr=""/>
            <p:cNvPicPr/>
            <p:nvPr/>
          </p:nvPicPr>
          <p:blipFill>
            <a:blip r:embed="rId4"/>
            <a:stretch/>
          </p:blipFill>
          <p:spPr>
            <a:xfrm>
              <a:off x="6689880" y="2362320"/>
              <a:ext cx="137124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669060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9152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Entity Pull-in Rule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3341520" y="2460600"/>
            <a:ext cx="2633760" cy="1747800"/>
            <a:chOff x="3341520" y="2460600"/>
            <a:chExt cx="2633760" cy="1747800"/>
          </a:xfrm>
        </p:grpSpPr>
        <p:sp>
          <p:nvSpPr>
            <p:cNvPr id="227" name=""/>
            <p:cNvSpPr/>
            <p:nvPr/>
          </p:nvSpPr>
          <p:spPr>
            <a:xfrm>
              <a:off x="4067280" y="2460600"/>
              <a:ext cx="954000" cy="477720"/>
            </a:xfrm>
            <a:prstGeom prst="rect">
              <a:avLst/>
            </a:prstGeom>
            <a:solidFill>
              <a:srgbClr val="969696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021280" y="3732120"/>
              <a:ext cx="954000" cy="476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4545000" y="2938320"/>
              <a:ext cx="0" cy="31608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3341520" y="3254040"/>
              <a:ext cx="160560" cy="477720"/>
              <a:chOff x="3341520" y="3254040"/>
              <a:chExt cx="160560" cy="477720"/>
            </a:xfrm>
          </p:grpSpPr>
          <p:sp>
            <p:nvSpPr>
              <p:cNvPr id="231" name=""/>
              <p:cNvSpPr/>
              <p:nvPr/>
            </p:nvSpPr>
            <p:spPr>
              <a:xfrm flipV="1">
                <a:off x="3431520" y="3254040"/>
                <a:ext cx="0" cy="47772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341520" y="3552840"/>
                <a:ext cx="160560" cy="1591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5398920" y="3279600"/>
              <a:ext cx="158760" cy="478080"/>
              <a:chOff x="5398920" y="3279600"/>
              <a:chExt cx="158760" cy="478080"/>
            </a:xfrm>
          </p:grpSpPr>
          <p:sp>
            <p:nvSpPr>
              <p:cNvPr id="234" name=""/>
              <p:cNvSpPr/>
              <p:nvPr/>
            </p:nvSpPr>
            <p:spPr>
              <a:xfrm flipV="1">
                <a:off x="5488200" y="3279600"/>
                <a:ext cx="0" cy="47808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398920" y="3578040"/>
                <a:ext cx="158760" cy="1591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6" name=""/>
            <p:cNvSpPr/>
            <p:nvPr/>
          </p:nvSpPr>
          <p:spPr>
            <a:xfrm>
              <a:off x="3432240" y="3254400"/>
              <a:ext cx="206352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3846600" y="5002200"/>
            <a:ext cx="95256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1935000" y="3732120"/>
            <a:ext cx="2451240" cy="1746360"/>
            <a:chOff x="1935000" y="3732120"/>
            <a:chExt cx="2451240" cy="1746360"/>
          </a:xfrm>
        </p:grpSpPr>
        <p:sp>
          <p:nvSpPr>
            <p:cNvPr id="239" name=""/>
            <p:cNvSpPr/>
            <p:nvPr/>
          </p:nvSpPr>
          <p:spPr>
            <a:xfrm>
              <a:off x="2955960" y="3732120"/>
              <a:ext cx="950760" cy="476280"/>
            </a:xfrm>
            <a:prstGeom prst="rect">
              <a:avLst/>
            </a:prstGeom>
            <a:solidFill>
              <a:srgbClr val="969696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3432240" y="4208040"/>
              <a:ext cx="0" cy="3193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935000" y="5002200"/>
              <a:ext cx="954360" cy="476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4226040" y="4527720"/>
              <a:ext cx="160200" cy="474480"/>
              <a:chOff x="4226040" y="4527720"/>
              <a:chExt cx="160200" cy="474480"/>
            </a:xfrm>
          </p:grpSpPr>
          <p:sp>
            <p:nvSpPr>
              <p:cNvPr id="243" name=""/>
              <p:cNvSpPr/>
              <p:nvPr/>
            </p:nvSpPr>
            <p:spPr>
              <a:xfrm flipV="1">
                <a:off x="4316040" y="4527720"/>
                <a:ext cx="0" cy="47448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226040" y="4824000"/>
                <a:ext cx="160200" cy="1580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2317680" y="4527720"/>
              <a:ext cx="160560" cy="474480"/>
              <a:chOff x="2317680" y="4527720"/>
              <a:chExt cx="160560" cy="474480"/>
            </a:xfrm>
          </p:grpSpPr>
          <p:sp>
            <p:nvSpPr>
              <p:cNvPr id="246" name=""/>
              <p:cNvSpPr/>
              <p:nvPr/>
            </p:nvSpPr>
            <p:spPr>
              <a:xfrm flipV="1">
                <a:off x="2407680" y="4527720"/>
                <a:ext cx="0" cy="47448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317680" y="4824000"/>
                <a:ext cx="160560" cy="1580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 flipH="1">
              <a:off x="2411280" y="4527720"/>
              <a:ext cx="188784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4804920" y="5010120"/>
            <a:ext cx="2224440" cy="476280"/>
            <a:chOff x="4804920" y="5010120"/>
            <a:chExt cx="2224440" cy="476280"/>
          </a:xfrm>
        </p:grpSpPr>
        <p:sp>
          <p:nvSpPr>
            <p:cNvPr id="250" name=""/>
            <p:cNvSpPr/>
            <p:nvPr/>
          </p:nvSpPr>
          <p:spPr>
            <a:xfrm>
              <a:off x="6078600" y="5010120"/>
              <a:ext cx="95076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4804920" y="5254560"/>
              <a:ext cx="127332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918040" y="5170320"/>
              <a:ext cx="160560" cy="1573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1828800" y="2438280"/>
            <a:ext cx="2209680" cy="527040"/>
            <a:chOff x="1828800" y="2438280"/>
            <a:chExt cx="2209680" cy="527040"/>
          </a:xfrm>
        </p:grpSpPr>
        <p:sp>
          <p:nvSpPr>
            <p:cNvPr id="254" name=""/>
            <p:cNvSpPr/>
            <p:nvPr/>
          </p:nvSpPr>
          <p:spPr>
            <a:xfrm flipH="1">
              <a:off x="2765520" y="2730600"/>
              <a:ext cx="127296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879720" y="2644920"/>
              <a:ext cx="158760" cy="1587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828800" y="2490840"/>
              <a:ext cx="954000" cy="4744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125520" y="24382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NV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1549440" y="1943280"/>
            <a:ext cx="5753160" cy="4132080"/>
            <a:chOff x="1549440" y="1943280"/>
            <a:chExt cx="5753160" cy="4132080"/>
          </a:xfrm>
        </p:grpSpPr>
        <p:sp>
          <p:nvSpPr>
            <p:cNvPr id="259" name=""/>
            <p:cNvSpPr/>
            <p:nvPr/>
          </p:nvSpPr>
          <p:spPr>
            <a:xfrm>
              <a:off x="1549440" y="1943280"/>
              <a:ext cx="1523880" cy="15411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568680" y="4508640"/>
              <a:ext cx="1523880" cy="15411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778360" y="4533840"/>
              <a:ext cx="152424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ncomplete BASE-CC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ludes a reference to an entity that is external to that BASE-C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ise due to “dangling” multiple-choice references v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ABSTRACT super-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SELECT 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Via ABSTRACT supertype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5105520" y="3297240"/>
            <a:ext cx="3019320" cy="1270080"/>
            <a:chOff x="5105520" y="3297240"/>
            <a:chExt cx="3019320" cy="1270080"/>
          </a:xfrm>
        </p:grpSpPr>
        <p:sp>
          <p:nvSpPr>
            <p:cNvPr id="269" name=""/>
            <p:cNvSpPr/>
            <p:nvPr/>
          </p:nvSpPr>
          <p:spPr>
            <a:xfrm>
              <a:off x="7170840" y="4091040"/>
              <a:ext cx="95400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6694560" y="3297240"/>
              <a:ext cx="0" cy="31608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5491080" y="3612960"/>
              <a:ext cx="160560" cy="477720"/>
              <a:chOff x="5491080" y="3612960"/>
              <a:chExt cx="160560" cy="477720"/>
            </a:xfrm>
          </p:grpSpPr>
          <p:sp>
            <p:nvSpPr>
              <p:cNvPr id="272" name=""/>
              <p:cNvSpPr/>
              <p:nvPr/>
            </p:nvSpPr>
            <p:spPr>
              <a:xfrm flipV="1">
                <a:off x="5581080" y="3612960"/>
                <a:ext cx="0" cy="47772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491080" y="3911760"/>
                <a:ext cx="160560" cy="1591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7548480" y="3638160"/>
              <a:ext cx="158760" cy="477720"/>
              <a:chOff x="7548480" y="3638160"/>
              <a:chExt cx="158760" cy="477720"/>
            </a:xfrm>
          </p:grpSpPr>
          <p:sp>
            <p:nvSpPr>
              <p:cNvPr id="275" name=""/>
              <p:cNvSpPr/>
              <p:nvPr/>
            </p:nvSpPr>
            <p:spPr>
              <a:xfrm flipV="1">
                <a:off x="7637760" y="3638160"/>
                <a:ext cx="0" cy="47772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548480" y="3936960"/>
                <a:ext cx="158760" cy="1591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7" name=""/>
            <p:cNvSpPr/>
            <p:nvPr/>
          </p:nvSpPr>
          <p:spPr>
            <a:xfrm>
              <a:off x="5581800" y="3613320"/>
              <a:ext cx="206352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105520" y="4091040"/>
              <a:ext cx="95076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2666520" y="2819520"/>
            <a:ext cx="4504320" cy="477720"/>
            <a:chOff x="2666520" y="2819520"/>
            <a:chExt cx="4504320" cy="477720"/>
          </a:xfrm>
        </p:grpSpPr>
        <p:grpSp>
          <p:nvGrpSpPr>
            <p:cNvPr id="280" name=""/>
            <p:cNvGrpSpPr/>
            <p:nvPr/>
          </p:nvGrpSpPr>
          <p:grpSpPr>
            <a:xfrm>
              <a:off x="2666520" y="2819520"/>
              <a:ext cx="4504320" cy="477720"/>
              <a:chOff x="2666520" y="2819520"/>
              <a:chExt cx="4504320" cy="477720"/>
            </a:xfrm>
          </p:grpSpPr>
          <p:sp>
            <p:nvSpPr>
              <p:cNvPr id="281" name=""/>
              <p:cNvSpPr/>
              <p:nvPr/>
            </p:nvSpPr>
            <p:spPr>
              <a:xfrm>
                <a:off x="6019920" y="2971800"/>
                <a:ext cx="160200" cy="1573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2666520" y="2819520"/>
                <a:ext cx="4504320" cy="477720"/>
                <a:chOff x="2666520" y="2819520"/>
                <a:chExt cx="4504320" cy="477720"/>
              </a:xfrm>
            </p:grpSpPr>
            <p:sp>
              <p:nvSpPr>
                <p:cNvPr id="283" name=""/>
                <p:cNvSpPr/>
                <p:nvPr/>
              </p:nvSpPr>
              <p:spPr>
                <a:xfrm flipH="1">
                  <a:off x="2666520" y="3048120"/>
                  <a:ext cx="3505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216480" y="2819520"/>
                  <a:ext cx="954360" cy="4777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85" name=""/>
            <p:cNvSpPr/>
            <p:nvPr/>
          </p:nvSpPr>
          <p:spPr>
            <a:xfrm>
              <a:off x="6326280" y="289548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1447920" y="2286000"/>
            <a:ext cx="4876560" cy="2824200"/>
            <a:chOff x="1447920" y="2286000"/>
            <a:chExt cx="4876560" cy="2824200"/>
          </a:xfrm>
        </p:grpSpPr>
        <p:sp>
          <p:nvSpPr>
            <p:cNvPr id="288" name=""/>
            <p:cNvSpPr/>
            <p:nvPr/>
          </p:nvSpPr>
          <p:spPr>
            <a:xfrm>
              <a:off x="1447920" y="228600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800600" y="356868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Via ABSTRACT supertype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170840" y="4091040"/>
            <a:ext cx="954000" cy="476280"/>
          </a:xfrm>
          <a:prstGeom prst="rect">
            <a:avLst/>
          </a:prstGeom>
          <a:solidFill>
            <a:srgbClr val="ffff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6694560" y="3297240"/>
            <a:ext cx="0" cy="31608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5491080" y="3612960"/>
            <a:ext cx="160560" cy="477720"/>
            <a:chOff x="5491080" y="3612960"/>
            <a:chExt cx="160560" cy="477720"/>
          </a:xfrm>
        </p:grpSpPr>
        <p:sp>
          <p:nvSpPr>
            <p:cNvPr id="296" name=""/>
            <p:cNvSpPr/>
            <p:nvPr/>
          </p:nvSpPr>
          <p:spPr>
            <a:xfrm flipV="1">
              <a:off x="5581080" y="3612960"/>
              <a:ext cx="0" cy="4777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491080" y="3911760"/>
              <a:ext cx="160560" cy="1591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7548480" y="3638160"/>
            <a:ext cx="158760" cy="477720"/>
            <a:chOff x="7548480" y="3638160"/>
            <a:chExt cx="158760" cy="477720"/>
          </a:xfrm>
        </p:grpSpPr>
        <p:sp>
          <p:nvSpPr>
            <p:cNvPr id="299" name=""/>
            <p:cNvSpPr/>
            <p:nvPr/>
          </p:nvSpPr>
          <p:spPr>
            <a:xfrm flipV="1">
              <a:off x="7637760" y="3638160"/>
              <a:ext cx="0" cy="4777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548480" y="3936960"/>
              <a:ext cx="158760" cy="1591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5581800" y="3613320"/>
            <a:ext cx="206352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105520" y="4091040"/>
            <a:ext cx="950760" cy="476280"/>
          </a:xfrm>
          <a:prstGeom prst="rect">
            <a:avLst/>
          </a:prstGeom>
          <a:solidFill>
            <a:srgbClr val="ffff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2666520" y="2819520"/>
            <a:ext cx="4504320" cy="477720"/>
            <a:chOff x="2666520" y="2819520"/>
            <a:chExt cx="4504320" cy="477720"/>
          </a:xfrm>
        </p:grpSpPr>
        <p:grpSp>
          <p:nvGrpSpPr>
            <p:cNvPr id="304" name=""/>
            <p:cNvGrpSpPr/>
            <p:nvPr/>
          </p:nvGrpSpPr>
          <p:grpSpPr>
            <a:xfrm>
              <a:off x="2666520" y="2819520"/>
              <a:ext cx="4504320" cy="477720"/>
              <a:chOff x="2666520" y="2819520"/>
              <a:chExt cx="4504320" cy="477720"/>
            </a:xfrm>
          </p:grpSpPr>
          <p:sp>
            <p:nvSpPr>
              <p:cNvPr id="305" name=""/>
              <p:cNvSpPr/>
              <p:nvPr/>
            </p:nvSpPr>
            <p:spPr>
              <a:xfrm>
                <a:off x="6019920" y="2971800"/>
                <a:ext cx="160200" cy="1573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06" name=""/>
              <p:cNvGrpSpPr/>
              <p:nvPr/>
            </p:nvGrpSpPr>
            <p:grpSpPr>
              <a:xfrm>
                <a:off x="2666520" y="2819520"/>
                <a:ext cx="4504320" cy="477720"/>
                <a:chOff x="2666520" y="2819520"/>
                <a:chExt cx="4504320" cy="477720"/>
              </a:xfrm>
            </p:grpSpPr>
            <p:sp>
              <p:nvSpPr>
                <p:cNvPr id="307" name=""/>
                <p:cNvSpPr/>
                <p:nvPr/>
              </p:nvSpPr>
              <p:spPr>
                <a:xfrm flipH="1">
                  <a:off x="2666520" y="3048120"/>
                  <a:ext cx="3505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216480" y="2819520"/>
                  <a:ext cx="954360" cy="4777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9" name=""/>
            <p:cNvSpPr/>
            <p:nvPr/>
          </p:nvSpPr>
          <p:spPr>
            <a:xfrm>
              <a:off x="6326280" y="289548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447920" y="2286000"/>
            <a:ext cx="152388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96160" y="3568680"/>
            <a:ext cx="152388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Via SELECT type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5105520" y="3047760"/>
            <a:ext cx="3019320" cy="1519560"/>
            <a:chOff x="5105520" y="3047760"/>
            <a:chExt cx="3019320" cy="1519560"/>
          </a:xfrm>
        </p:grpSpPr>
        <p:sp>
          <p:nvSpPr>
            <p:cNvPr id="317" name=""/>
            <p:cNvSpPr/>
            <p:nvPr/>
          </p:nvSpPr>
          <p:spPr>
            <a:xfrm>
              <a:off x="7170840" y="4091040"/>
              <a:ext cx="95400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8" name=""/>
            <p:cNvGrpSpPr/>
            <p:nvPr/>
          </p:nvGrpSpPr>
          <p:grpSpPr>
            <a:xfrm>
              <a:off x="5334120" y="3047760"/>
              <a:ext cx="2373120" cy="1068120"/>
              <a:chOff x="5334120" y="3047760"/>
              <a:chExt cx="2373120" cy="1068120"/>
            </a:xfrm>
          </p:grpSpPr>
          <p:sp>
            <p:nvSpPr>
              <p:cNvPr id="319" name=""/>
              <p:cNvSpPr/>
              <p:nvPr/>
            </p:nvSpPr>
            <p:spPr>
              <a:xfrm flipV="1">
                <a:off x="5581800" y="3047760"/>
                <a:ext cx="0" cy="10429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491080" y="3911760"/>
                <a:ext cx="1605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V="1">
                <a:off x="7637400" y="3047760"/>
                <a:ext cx="0" cy="1068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548480" y="3936960"/>
                <a:ext cx="1587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334120" y="3048120"/>
                <a:ext cx="228600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>
              <a:off x="5105520" y="4091040"/>
              <a:ext cx="95076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1371600" y="2286000"/>
            <a:ext cx="4952880" cy="2824200"/>
            <a:chOff x="1371600" y="2286000"/>
            <a:chExt cx="4952880" cy="2824200"/>
          </a:xfrm>
        </p:grpSpPr>
        <p:sp>
          <p:nvSpPr>
            <p:cNvPr id="327" name=""/>
            <p:cNvSpPr/>
            <p:nvPr/>
          </p:nvSpPr>
          <p:spPr>
            <a:xfrm>
              <a:off x="1371600" y="228600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800600" y="356868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2666880" y="2819520"/>
            <a:ext cx="2675160" cy="477720"/>
            <a:chOff x="2666880" y="2819520"/>
            <a:chExt cx="2675160" cy="477720"/>
          </a:xfrm>
        </p:grpSpPr>
        <p:sp>
          <p:nvSpPr>
            <p:cNvPr id="330" name=""/>
            <p:cNvSpPr/>
            <p:nvPr/>
          </p:nvSpPr>
          <p:spPr>
            <a:xfrm>
              <a:off x="3657600" y="2971800"/>
              <a:ext cx="160200" cy="1573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2666880" y="3048120"/>
              <a:ext cx="106704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2" name=""/>
            <p:cNvGrpSpPr/>
            <p:nvPr/>
          </p:nvGrpSpPr>
          <p:grpSpPr>
            <a:xfrm>
              <a:off x="3809880" y="2819520"/>
              <a:ext cx="1532160" cy="477720"/>
              <a:chOff x="3809880" y="2819520"/>
              <a:chExt cx="1532160" cy="477720"/>
            </a:xfrm>
          </p:grpSpPr>
          <p:sp>
            <p:nvSpPr>
              <p:cNvPr id="333" name=""/>
              <p:cNvSpPr/>
              <p:nvPr/>
            </p:nvSpPr>
            <p:spPr>
              <a:xfrm>
                <a:off x="3809880" y="2819520"/>
                <a:ext cx="1532160" cy="4777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142880" y="2870280"/>
                <a:ext cx="1183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ELEC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038480" y="2819520"/>
                <a:ext cx="0" cy="45720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6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Via SELECT type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5105520" y="3047760"/>
            <a:ext cx="3019320" cy="1519560"/>
            <a:chOff x="5105520" y="3047760"/>
            <a:chExt cx="3019320" cy="1519560"/>
          </a:xfrm>
        </p:grpSpPr>
        <p:sp>
          <p:nvSpPr>
            <p:cNvPr id="340" name=""/>
            <p:cNvSpPr/>
            <p:nvPr/>
          </p:nvSpPr>
          <p:spPr>
            <a:xfrm>
              <a:off x="7170840" y="4091040"/>
              <a:ext cx="95400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1" name=""/>
            <p:cNvGrpSpPr/>
            <p:nvPr/>
          </p:nvGrpSpPr>
          <p:grpSpPr>
            <a:xfrm>
              <a:off x="5334120" y="3047760"/>
              <a:ext cx="2373120" cy="1068120"/>
              <a:chOff x="5334120" y="3047760"/>
              <a:chExt cx="2373120" cy="1068120"/>
            </a:xfrm>
          </p:grpSpPr>
          <p:sp>
            <p:nvSpPr>
              <p:cNvPr id="342" name=""/>
              <p:cNvSpPr/>
              <p:nvPr/>
            </p:nvSpPr>
            <p:spPr>
              <a:xfrm flipV="1">
                <a:off x="5581800" y="3047760"/>
                <a:ext cx="0" cy="10429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491080" y="3911760"/>
                <a:ext cx="1605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V="1">
                <a:off x="7637400" y="3047760"/>
                <a:ext cx="0" cy="1068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7548480" y="3936960"/>
                <a:ext cx="1587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334120" y="3048120"/>
                <a:ext cx="228600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>
              <a:off x="5105520" y="4091040"/>
              <a:ext cx="95076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371600" y="2286000"/>
            <a:ext cx="152388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905520" y="3568680"/>
            <a:ext cx="152424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2666880" y="2819520"/>
            <a:ext cx="2675160" cy="477720"/>
            <a:chOff x="2666880" y="2819520"/>
            <a:chExt cx="2675160" cy="477720"/>
          </a:xfrm>
        </p:grpSpPr>
        <p:sp>
          <p:nvSpPr>
            <p:cNvPr id="352" name=""/>
            <p:cNvSpPr/>
            <p:nvPr/>
          </p:nvSpPr>
          <p:spPr>
            <a:xfrm>
              <a:off x="3657600" y="2971800"/>
              <a:ext cx="160200" cy="1573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2666880" y="3048120"/>
              <a:ext cx="106704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4" name=""/>
            <p:cNvGrpSpPr/>
            <p:nvPr/>
          </p:nvGrpSpPr>
          <p:grpSpPr>
            <a:xfrm>
              <a:off x="3809880" y="2819520"/>
              <a:ext cx="1532160" cy="477720"/>
              <a:chOff x="3809880" y="2819520"/>
              <a:chExt cx="1532160" cy="477720"/>
            </a:xfrm>
          </p:grpSpPr>
          <p:sp>
            <p:nvSpPr>
              <p:cNvPr id="355" name=""/>
              <p:cNvSpPr/>
              <p:nvPr/>
            </p:nvSpPr>
            <p:spPr>
              <a:xfrm>
                <a:off x="3809880" y="2819520"/>
                <a:ext cx="1532160" cy="4777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142880" y="2870280"/>
                <a:ext cx="1183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ELEC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038480" y="2819520"/>
                <a:ext cx="0" cy="45720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8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ncomplete BASE-CC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ust be “completed” to create a valid 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hoices for completing them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IS/2 Beta defines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rule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for satisfy dangling relationships by adding in selected     BASE-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ules derived (by hand) from the EXPRESS for each type of dangling re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ERE Rul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s-defined, BASE-CCs d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no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llow for the existence of any WHERE rules that require the co-existence of entities from different BASE-C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some WHRE rules will require some BASE-CCs to be used in combination, effective reducing the number of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BASE-C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ncomplete BASE-CC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Basic Concept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formance Clas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rm borrowed from ISO10303 (STEP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logical subset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pecify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ranslator sc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est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ranslator compli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rd bounda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all entities within must be supported in full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formance Clas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-defined in the CIS/2 docum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 of each CC is derived logically from the EXPRESS sch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rge number of defined 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they can be used in combination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which CCs to us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ase Conformance Clas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S/2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ocumentation defines 545 BASE-CC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ch is “based-on” a different entit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sts other “included entitie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defined, each BASE-CCs is either    </a:t>
            </a:r>
            <a:r>
              <a:rPr b="1" i="1" lang="en-US" sz="3200" spc="-1" strike="noStrike">
                <a:solidFill>
                  <a:srgbClr val="00ff00"/>
                </a:solidFill>
                <a:latin typeface="Times New Roman"/>
              </a:rPr>
              <a:t>Complet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Incomple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must be “completed” prior to us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mpleting CC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1158480" y="2514600"/>
            <a:ext cx="5641920" cy="2319120"/>
            <a:chOff x="1158480" y="2514600"/>
            <a:chExt cx="5641920" cy="2319120"/>
          </a:xfrm>
        </p:grpSpPr>
        <p:cxnSp>
          <p:nvCxnSpPr>
            <p:cNvPr id="77" name=""/>
            <p:cNvCxnSpPr>
              <a:stCxn id="78" idx="2"/>
              <a:endCxn id="79" idx="0"/>
            </p:cNvCxnSpPr>
            <p:nvPr/>
          </p:nvCxnSpPr>
          <p:spPr>
            <a:xfrm rot="5400000">
              <a:off x="2448720" y="3039840"/>
              <a:ext cx="978480" cy="1296360"/>
            </a:xfrm>
            <a:prstGeom prst="bentConnector3">
              <a:avLst>
                <a:gd name="adj1" fmla="val 49981"/>
              </a:avLst>
            </a:prstGeom>
            <a:ln w="28440">
              <a:solidFill>
                <a:srgbClr val="cc0000"/>
              </a:solidFill>
              <a:miter/>
            </a:ln>
          </p:spPr>
        </p:cxnSp>
        <p:grpSp>
          <p:nvGrpSpPr>
            <p:cNvPr id="80" name=""/>
            <p:cNvGrpSpPr/>
            <p:nvPr/>
          </p:nvGrpSpPr>
          <p:grpSpPr>
            <a:xfrm>
              <a:off x="1158480" y="2514600"/>
              <a:ext cx="5641920" cy="2319120"/>
              <a:chOff x="1158480" y="2514600"/>
              <a:chExt cx="5641920" cy="2319120"/>
            </a:xfrm>
          </p:grpSpPr>
          <p:sp>
            <p:nvSpPr>
              <p:cNvPr id="78" name=""/>
              <p:cNvSpPr/>
              <p:nvPr/>
            </p:nvSpPr>
            <p:spPr>
              <a:xfrm>
                <a:off x="2453400" y="2514600"/>
                <a:ext cx="2265480" cy="64260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BASE-CC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158480" y="4191120"/>
                <a:ext cx="2264040" cy="642600"/>
              </a:xfrm>
              <a:prstGeom prst="rect">
                <a:avLst/>
              </a:prstGeom>
              <a:noFill/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00ff00"/>
                    </a:solidFill>
                    <a:latin typeface="Arial"/>
                  </a:rPr>
                  <a:t>Complete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07320" y="4191120"/>
                <a:ext cx="2593080" cy="64260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ff0000"/>
                    </a:solidFill>
                    <a:latin typeface="Arial"/>
                  </a:rPr>
                  <a:t>Incomplete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82" name=""/>
              <p:cNvCxnSpPr>
                <a:stCxn id="78" idx="2"/>
                <a:endCxn id="81" idx="0"/>
              </p:cNvCxnSpPr>
              <p:nvPr/>
            </p:nvCxnSpPr>
            <p:spPr>
              <a:xfrm flipH="1" rot="16200000">
                <a:off x="4055400" y="2728800"/>
                <a:ext cx="978480" cy="1918440"/>
              </a:xfrm>
              <a:prstGeom prst="bentConnector3">
                <a:avLst>
                  <a:gd name="adj1" fmla="val 49981"/>
                </a:avLst>
              </a:prstGeom>
              <a:ln w="28440">
                <a:solidFill>
                  <a:srgbClr val="cc0000"/>
                </a:solidFill>
                <a:miter/>
              </a:ln>
            </p:spPr>
          </p:cxnSp>
        </p:grpSp>
      </p:grpSp>
      <p:grpSp>
        <p:nvGrpSpPr>
          <p:cNvPr id="83" name=""/>
          <p:cNvGrpSpPr/>
          <p:nvPr/>
        </p:nvGrpSpPr>
        <p:grpSpPr>
          <a:xfrm>
            <a:off x="4747680" y="2362320"/>
            <a:ext cx="2297520" cy="2163240"/>
            <a:chOff x="4747680" y="2362320"/>
            <a:chExt cx="2297520" cy="2163240"/>
          </a:xfrm>
        </p:grpSpPr>
        <p:cxnSp>
          <p:nvCxnSpPr>
            <p:cNvPr id="84" name=""/>
            <p:cNvCxnSpPr>
              <a:stCxn id="81" idx="3"/>
              <a:endCxn id="78" idx="3"/>
            </p:cNvCxnSpPr>
            <p:nvPr/>
          </p:nvCxnSpPr>
          <p:spPr>
            <a:xfrm flipH="1" flipV="1">
              <a:off x="4747680" y="2848680"/>
              <a:ext cx="2083680" cy="1677240"/>
            </a:xfrm>
            <a:prstGeom prst="bentConnector3">
              <a:avLst>
                <a:gd name="adj1" fmla="val -10281"/>
              </a:avLst>
            </a:prstGeom>
            <a:ln w="28440">
              <a:solidFill>
                <a:srgbClr val="cc0000"/>
              </a:solidFill>
              <a:miter/>
              <a:tailEnd len="lg" type="oval" w="lg"/>
            </a:ln>
          </p:spPr>
        </p:cxnSp>
        <p:sp>
          <p:nvSpPr>
            <p:cNvPr id="85" name=""/>
            <p:cNvSpPr/>
            <p:nvPr/>
          </p:nvSpPr>
          <p:spPr>
            <a:xfrm>
              <a:off x="4953240" y="2362320"/>
              <a:ext cx="194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Completed_b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4724280" y="5257800"/>
            <a:ext cx="990720" cy="9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5486400"/>
            <a:ext cx="838080" cy="838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05520" y="5486400"/>
            <a:ext cx="838080" cy="838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410080" y="5181480"/>
            <a:ext cx="76212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15000" y="5410080"/>
            <a:ext cx="7621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28800" y="5257800"/>
            <a:ext cx="990720" cy="99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0552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mpleting CC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453400" y="2514600"/>
            <a:ext cx="2265480" cy="642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ASE-C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158480" y="4191120"/>
            <a:ext cx="2264040" cy="64260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ff00"/>
                </a:solidFill>
                <a:latin typeface="Arial"/>
              </a:rPr>
              <a:t>Comple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207320" y="4191120"/>
            <a:ext cx="259308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Incomple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6" idx="2"/>
            <a:endCxn id="97" idx="0"/>
          </p:cNvCxnSpPr>
          <p:nvPr/>
        </p:nvCxnSpPr>
        <p:spPr>
          <a:xfrm rot="5400000">
            <a:off x="2448720" y="3039840"/>
            <a:ext cx="978480" cy="1296360"/>
          </a:xfrm>
          <a:prstGeom prst="bentConnector3">
            <a:avLst>
              <a:gd name="adj1" fmla="val 49981"/>
            </a:avLst>
          </a:prstGeom>
          <a:ln w="28440">
            <a:solidFill>
              <a:srgbClr val="cc0000"/>
            </a:solidFill>
            <a:miter/>
          </a:ln>
        </p:spPr>
      </p:cxnSp>
      <p:cxnSp>
        <p:nvCxnSpPr>
          <p:cNvPr id="100" name=""/>
          <p:cNvCxnSpPr>
            <a:stCxn id="96" idx="2"/>
            <a:endCxn id="98" idx="0"/>
          </p:cNvCxnSpPr>
          <p:nvPr/>
        </p:nvCxnSpPr>
        <p:spPr>
          <a:xfrm flipH="1" rot="16200000">
            <a:off x="4055400" y="2728800"/>
            <a:ext cx="978480" cy="1918440"/>
          </a:xfrm>
          <a:prstGeom prst="bentConnector3">
            <a:avLst>
              <a:gd name="adj1" fmla="val 49981"/>
            </a:avLst>
          </a:prstGeom>
          <a:ln w="28440">
            <a:solidFill>
              <a:srgbClr val="cc0000"/>
            </a:solidFill>
            <a:miter/>
          </a:ln>
        </p:spPr>
      </p:cxnSp>
      <p:grpSp>
        <p:nvGrpSpPr>
          <p:cNvPr id="101" name=""/>
          <p:cNvGrpSpPr/>
          <p:nvPr/>
        </p:nvGrpSpPr>
        <p:grpSpPr>
          <a:xfrm>
            <a:off x="4747680" y="2362320"/>
            <a:ext cx="2297520" cy="2163240"/>
            <a:chOff x="4747680" y="2362320"/>
            <a:chExt cx="2297520" cy="2163240"/>
          </a:xfrm>
        </p:grpSpPr>
        <p:cxnSp>
          <p:nvCxnSpPr>
            <p:cNvPr id="102" name=""/>
            <p:cNvCxnSpPr>
              <a:stCxn id="98" idx="3"/>
              <a:endCxn id="96" idx="3"/>
            </p:cNvCxnSpPr>
            <p:nvPr/>
          </p:nvCxnSpPr>
          <p:spPr>
            <a:xfrm flipH="1" flipV="1">
              <a:off x="4747680" y="2848680"/>
              <a:ext cx="2083680" cy="1677240"/>
            </a:xfrm>
            <a:prstGeom prst="bentConnector3">
              <a:avLst>
                <a:gd name="adj1" fmla="val -10281"/>
              </a:avLst>
            </a:prstGeom>
            <a:ln w="28440">
              <a:solidFill>
                <a:srgbClr val="cc0000"/>
              </a:solidFill>
              <a:miter/>
              <a:tailEnd len="lg" type="oval" w="lg"/>
            </a:ln>
          </p:spPr>
        </p:cxnSp>
        <p:sp>
          <p:nvSpPr>
            <p:cNvPr id="103" name=""/>
            <p:cNvSpPr/>
            <p:nvPr/>
          </p:nvSpPr>
          <p:spPr>
            <a:xfrm>
              <a:off x="4953240" y="2362320"/>
              <a:ext cx="194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Completed_b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4419720" y="5486400"/>
            <a:ext cx="838080" cy="838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05520" y="5486400"/>
            <a:ext cx="838080" cy="838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10080" y="5181480"/>
            <a:ext cx="7621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15000" y="5410080"/>
            <a:ext cx="7621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5257800"/>
            <a:ext cx="990720" cy="99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5257800"/>
            <a:ext cx="990720" cy="99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0552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23:30:44Z</dcterms:created>
  <dc:creator>Alastair Watson</dc:creator>
  <dc:description/>
  <dc:language>en-US</dc:language>
  <cp:lastModifiedBy>Alastair Watson</cp:lastModifiedBy>
  <dcterms:modified xsi:type="dcterms:W3CDTF">1999-06-23T00:35:22Z</dcterms:modified>
  <cp:revision>35</cp:revision>
  <dc:subject/>
  <dc:title>AISC CIS/2  Workshop #I</dc:title>
</cp:coreProperties>
</file>